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8094C8-D8E6-46D7-AFF3-F61EA550580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0760" y="71424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F87-0AF6-4B97-8990-C87BFA47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6B9-43B5-46A0-94DB-06101B10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D60-8988-4A01-A52D-6286372E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B1C-C214-4982-BD63-399BD89E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13E6-3E1B-4DC7-9780-F54E16BF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E910-69E6-4911-8248-58561109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C469-C963-4A0D-B504-8BE47195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67F1-6698-4FC9-9965-B110F306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D37E-3D8B-4BA8-83BE-F0F58C02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BC60-FEAA-42BC-892A-1DEE89A4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159E-980F-40C2-A97D-45CFF886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3BD-18C7-4573-91BF-825072EF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BF3D-8946-4223-A357-748C8AE3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FFE7-4C1C-40E2-BD4C-BFF17953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E601-7015-4318-BE02-4FD76206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65E9-B9D7-48C0-97A0-6DE5EA96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2B2C-E21B-4F29-A35D-B2FC4DFA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90407-7404-4771-AF59-709ABF31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58EDE-F5D3-4BB8-9196-A8694EFC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B181-D4FC-410A-802B-F21150DC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E9D3E-8F93-4DF5-B1CC-406C699B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AF2B7-8F07-4496-B412-6DEA5CDC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3D9-9363-46FD-AA6E-D8DF54DF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96F9-2B8C-401A-A5F7-7463ED75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2D3E7-7489-4B9F-B610-6F22F888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37532-DF79-4CFB-82FE-3AEDF15A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AD89F-32B2-47D3-8A65-7E3DB60C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6D4A7-4C87-408A-969B-AE2ED014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94CB-52B8-42E7-BBFF-A8F2A366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D5153-C762-461A-B41B-86CD8D3F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1AE2C-0704-43D7-8B9C-F232741D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E07FA-6B64-4C71-8ED9-8F51081D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EB70-5132-450E-ABAA-B6E4F4C8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2BC-0780-4CCB-8F5D-DB0D62B5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FA069-97EC-4849-9D41-3FFC50FF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13AB-8668-4CC3-9503-753CC0B3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7597F-5477-4312-940B-1039D66B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4B622-E799-47C6-8016-BFA71F66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EB8B8-562D-4A1F-9A38-E8D29732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F84F7-B3B0-46AB-8182-D2D0FAF3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0AAF-61FA-4BF9-A98E-4F190A04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19F9-C6C9-486B-A56D-6282DEE7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F7DDB-F6D3-4BF6-9372-96EA2E43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03095-3C61-44D2-B582-34B595D3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83D-5B2F-4D6D-9674-CB9E6632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1C6AB-F8CC-4263-B6B3-70EB52A3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7DCB4-311F-4A5E-BC34-AB0E8CA1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398D0-5C98-4739-97E3-73CC4643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B4101-7E30-4DFA-9F5D-B89C5DFE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F6097-6EF1-4077-9218-636A5B7D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5A6EE-77B6-4735-80AE-155681EB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E421C-E490-472E-842D-F3798921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56E41-0306-4F15-8A40-EC4BD9FE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FF710-86F8-449B-B923-E3C10818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CB53F-B161-42C8-BF17-7B9BCF31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31F-42A8-4B7A-9DB7-834CA079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D7705-20D2-4CA9-A633-D3A21F83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B78-5F83-476D-8773-74633A51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C287-E75A-4927-997B-63869615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5B5-8411-4451-91C1-FA76D368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5A14-A16F-4664-8FEC-1D0513A8608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5F8F-722A-43F3-A489-A610A12D1856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A859-3609-4967-9CB1-DC9686C6A2CB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27D9-FCC0-407C-984D-08E6B86A9168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C93B-F4AF-4A3D-9808-6D69A6A8F61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1.05.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7692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CFBF-DCFC-4A7F-9B14-6A9CFB5677E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0CBA-10C8-4AA6-9475-E29854C64B0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0" descr=""/>
          <p:cNvPicPr/>
          <p:nvPr/>
        </p:nvPicPr>
        <p:blipFill>
          <a:blip r:embed="rId1"/>
          <a:stretch/>
        </p:blipFill>
        <p:spPr>
          <a:xfrm>
            <a:off x="0" y="836640"/>
            <a:ext cx="881712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A44E-7752-4595-B69F-530B92E57E3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2" descr=""/>
          <p:cNvPicPr/>
          <p:nvPr/>
        </p:nvPicPr>
        <p:blipFill>
          <a:blip r:embed="rId1"/>
          <a:stretch/>
        </p:blipFill>
        <p:spPr>
          <a:xfrm>
            <a:off x="0" y="907920"/>
            <a:ext cx="88488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B41A-373A-442F-A95F-43332F7622A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080D-282E-4AE4-869A-A4EE3441C46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AFE0-4F6E-4531-88BF-78BCFAD1538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247A-7970-4CCE-9929-73F4DAE6177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0850-F87C-41A6-A228-CFB39E8B6F7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8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877F-E5E8-4F05-BE09-A0D00FE0A6A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B700-82ED-4B14-B05E-FD6C0A7D6F4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28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D2C1-1991-4F71-9BCA-90D779CEA90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FC71-9B56-4E1A-940B-805E93AC189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8848800" cy="5705640"/>
          </a:xfrm>
          <a:prstGeom prst="rect">
            <a:avLst/>
          </a:prstGeom>
          <a:ln w="0">
            <a:noFill/>
          </a:ln>
        </p:spPr>
      </p:pic>
      <p:sp>
        <p:nvSpPr>
          <p:cNvPr id="29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6C5D-47CC-4597-8C39-2966DC0287D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29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C8B5-8990-4066-8D28-67001005E41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54B8-CA03-43B3-8D8E-7BAD317A9E2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81004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FE98-D729-4E62-A52F-D278A69A75A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6526-8F9A-4D60-914E-C91E3A24BC0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4662720" cy="797040"/>
          </a:xfrm>
          <a:prstGeom prst="rect">
            <a:avLst/>
          </a:prstGeom>
          <a:ln w="0">
            <a:noFill/>
          </a:ln>
        </p:spPr>
      </p:pic>
      <p:sp>
        <p:nvSpPr>
          <p:cNvPr id="2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8BD7-1BF0-4053-8B64-22B5D2B4507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"/>
          <p:cNvPicPr/>
          <p:nvPr/>
        </p:nvPicPr>
        <p:blipFill>
          <a:blip r:embed="rId1"/>
          <a:stretch/>
        </p:blipFill>
        <p:spPr>
          <a:xfrm>
            <a:off x="147600" y="57960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30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78C1-49C2-49D8-BB32-9CB53F8A529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6EA8-E011-483D-9D46-84B24202595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AF60-4E9A-4A09-BA90-D6EB71A8922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31DB-8D37-44B6-936A-979675BA51F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5D5A-35EB-4670-810B-8ADA9A3E1BE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147600" y="736560"/>
            <a:ext cx="88488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30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5A65-3FDD-4914-867C-AB7D8813C2E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597640"/>
          </a:xfrm>
          <a:prstGeom prst="rect">
            <a:avLst/>
          </a:prstGeom>
          <a:ln w="0">
            <a:noFill/>
          </a:ln>
        </p:spPr>
      </p:pic>
      <p:sp>
        <p:nvSpPr>
          <p:cNvPr id="31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061A-32B0-4D2F-A212-2F9EEE5BF5A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B9FC-7CC2-412E-B9EC-A70E7828BBC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8848800" cy="562932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E8EF-86A7-492B-BF9A-20922D904C0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8360" cy="610560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6A5F-4204-4DDB-87F6-F8A8022848F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A422-397A-4613-AB13-2F98ED4D1E0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5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34FC-5BA5-4919-9906-738E41B5B01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2ACC-2B2A-419B-B52B-0374636A421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484960" y="2109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959F-55B2-4712-8680-9DD81424223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D1C6-CD33-41EA-A81B-F475FF01FBB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2824-86CB-4C52-87BF-ABF583F91F8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2" descr=""/>
          <p:cNvPicPr/>
          <p:nvPr/>
        </p:nvPicPr>
        <p:blipFill>
          <a:blip r:embed="rId1"/>
          <a:stretch/>
        </p:blipFill>
        <p:spPr>
          <a:xfrm>
            <a:off x="195120" y="617400"/>
            <a:ext cx="8753760" cy="5629320"/>
          </a:xfrm>
          <a:prstGeom prst="rect">
            <a:avLst/>
          </a:prstGeom>
          <a:ln w="0">
            <a:noFill/>
          </a:ln>
        </p:spPr>
      </p:pic>
      <p:sp>
        <p:nvSpPr>
          <p:cNvPr id="32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0BF6-B8A1-4272-8F4C-E4952C4ED10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7374-9C69-4571-BBCB-8D5D068F42A8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700360" y="1628640"/>
            <a:ext cx="4248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7E85-9732-49E8-801B-766E682724F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1024-52BC-48B2-892E-EFF8D0CDAFC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612720" y="1503360"/>
            <a:ext cx="7916760" cy="3857760"/>
          </a:xfrm>
          <a:prstGeom prst="rect">
            <a:avLst/>
          </a:prstGeom>
          <a:ln w="0">
            <a:noFill/>
          </a:ln>
        </p:spPr>
      </p:pic>
      <p:sp>
        <p:nvSpPr>
          <p:cNvPr id="26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4A69-8729-4DFF-B2E8-E091C8D01D1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12720" y="2106720"/>
            <a:ext cx="7916760" cy="3051000"/>
          </a:xfrm>
          <a:prstGeom prst="rect">
            <a:avLst/>
          </a:prstGeom>
          <a:ln w="0">
            <a:noFill/>
          </a:ln>
        </p:spPr>
      </p:pic>
      <p:sp>
        <p:nvSpPr>
          <p:cNvPr id="26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0C80-44D7-4FE2-B3C4-A4C906F9FCD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4B30-8D46-4D4C-94FF-D8C6E0A51AD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7A85-269B-447C-88DB-B777B34BF55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147600" y="687240"/>
            <a:ext cx="8848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E092-F59F-41AA-A2AE-F50B827318C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152280" y="741240"/>
            <a:ext cx="8839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0年死因記者會簡報</cp:keywords>
  <dc:language>en-US</dc:language>
  <cp:lastModifiedBy>ASUS</cp:lastModifiedBy>
  <dcterms:modified xsi:type="dcterms:W3CDTF">2012-05-23T20:01:33Z</dcterms:modified>
  <cp:revision>463</cp:revision>
  <dc:subject>衛生署中英文網站</dc:subject>
  <dc:title>民國100年死因記者會簡報</dc:title>
</cp:coreProperties>
</file>